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D7F-55B1-4CE4-A793-22221C1D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35D-C288-4DAA-ACFD-926A4F6F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70F-F849-40A7-AE21-873418CD6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C18-432E-449C-BCCD-56217DA3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EC6F-D75E-48F9-8803-85945466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EBC8-DDE4-40A3-9F2E-003AAAA1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7FA6-313F-477E-9763-EFB9AC89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6452-B7D9-49AF-8F21-0855BD85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FC72-C966-49B5-B1CF-435F596F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0313-A801-4814-9659-F767A713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CB9C-2033-4CA7-B421-19223D21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85A-8802-4FB8-8940-868CE04B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52BB-B9C6-4FCE-9BE1-CD661AED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E828-7968-4174-835F-AA7B3FBB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1815-9177-4801-A906-BA186A91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6A52-4BDD-4E8A-9568-E31D9D57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8837-73EB-4BB4-84EC-460AB258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055-2EC4-4594-9461-1C80912E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027E-0251-4F00-A9B1-1BF6DE41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239-8D35-497C-9A35-62DC4B2A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737-4222-4693-A9CF-19477321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C09-00DA-469A-B6F8-76DF15A7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813-E481-4607-AB49-3E422FCF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672C-AA0A-4492-90CA-1984D8F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FEDE-0D0D-4AE9-8FF4-AD54AE3CC7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96A0-7A8B-446A-90F1-92BC731E10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utor.com.my/stpm/variasi_bahasa.htm" TargetMode="External"/><Relationship Id="rId2" Type="http://schemas.openxmlformats.org/officeDocument/2006/relationships/hyperlink" Target="http://cyberita.asia1.com.sg/singapura/story/0,3617,164649,00.html" TargetMode="External"/><Relationship Id="rId3" Type="http://schemas.openxmlformats.org/officeDocument/2006/relationships/hyperlink" Target="http://www.cybermelayu.com/newriang/informasi/informasi_10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295280" y="2057400"/>
            <a:ext cx="70866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blem Based Learn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4582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nario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3399ff"/>
                </a:solidFill>
                <a:latin typeface="Arial"/>
              </a:rPr>
              <a:t>My Malay is not good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engakuan ini sememangnya tidak mustahil kal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diucapkan seorang yang bukan berbangsa Melay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ebagai seorang warga Malaysia, kamu ag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terkejut apabila mendapat tahu pengakuan 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acapkali digunakan oleh bangsa Melayu 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Singapu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457200"/>
            <a:ext cx="8915400" cy="6400800"/>
          </a:xfrm>
          <a:prstGeom prst="cloudCallout">
            <a:avLst>
              <a:gd name="adj1" fmla="val -35203"/>
              <a:gd name="adj2" fmla="val 314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amu dan rakan-rakan ka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nganggap ia merupakan satu masalah yang genting di kalangan masyarakat Melayu di Singapura. Jika masalah ini berlarutan, ia akan menyebabkan bahasa ibunda pupus ditelan arus ma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amu bercadang untuk mengkaji inti penyebab masalah ini dan ingin menyarankan kepada pihak Lembaga Kesatuan Melayu cara-cara dapat melestarikan Bahasa Melay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Dipetik dari Berita Harian, April 2010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56189" t="0" r="15254" b="27758"/>
          <a:stretch/>
        </p:blipFill>
        <p:spPr>
          <a:xfrm>
            <a:off x="4343400" y="1523880"/>
            <a:ext cx="4645080" cy="4948200"/>
          </a:xfrm>
          <a:prstGeom prst="rect">
            <a:avLst/>
          </a:prstGeom>
          <a:ln w="76320">
            <a:solidFill>
              <a:srgbClr val="010199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rcRect l="0" t="77122" r="43501" b="0"/>
          <a:stretch/>
        </p:blipFill>
        <p:spPr>
          <a:xfrm>
            <a:off x="0" y="2211480"/>
            <a:ext cx="4799160" cy="3046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50880" y="533520"/>
            <a:ext cx="78408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52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rlin Sans FB Demi"/>
              </a:rPr>
              <a:t>Kaji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066680"/>
            <a:ext cx="8686800" cy="533412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81080"/>
            <a:ext cx="65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Kamu akan memulakan ekspedisi kamu dengan memikirkan beberapa soalan untuk memandu kajian kamu nant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380880"/>
            <a:ext cx="5867640" cy="1447920"/>
          </a:xfrm>
          <a:prstGeom prst="cloudCallout">
            <a:avLst>
              <a:gd name="adj1" fmla="val -56657"/>
              <a:gd name="adj2" fmla="val 7094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perbezaan kehidupan orang Melayu di Singapura dan orang Melayu di Malays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752480"/>
            <a:ext cx="5867280" cy="1447920"/>
          </a:xfrm>
          <a:prstGeom prst="cloudCallout">
            <a:avLst>
              <a:gd name="adj1" fmla="val 58685"/>
              <a:gd name="adj2" fmla="val 90351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ongan yang mana selalu mengatakan mereka ‘kurang mahir’ dalam Bahasa Melay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352680"/>
            <a:ext cx="5867280" cy="1752840"/>
          </a:xfrm>
          <a:prstGeom prst="cloudCallout">
            <a:avLst>
              <a:gd name="adj1" fmla="val -51949"/>
              <a:gd name="adj2" fmla="val 8740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gaimanakah lenggok percakapan orang Melayu di Singapura? Bahasa Inggeris atau Bahasa Campur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800600"/>
            <a:ext cx="5867640" cy="1752480"/>
          </a:xfrm>
          <a:prstGeom prst="cloudCallout">
            <a:avLst>
              <a:gd name="adj1" fmla="val 56412"/>
              <a:gd name="adj2" fmla="val 5561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kah sebab yang menyebabkan mereka ‘malu’ bertutur dalam bahasa Melayu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anduan Kajian Kam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tutor.com.my/stpm/variasi_bahasa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cyberita.asia1.com.sg/singapura/story/0,3617,164649,00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cybermelayu.com/newriang/informasi/informasi_10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pbmuks.org/ms/2009/01/19/kalau-hendak-melentur-buluh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ugas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lisk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rat rasm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pada Pengerusi Lembaga Bahasa Melayu Singapura untuk mengemukakan masalah pertuturan dalam Bahasa Melayu di Singapu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at kamu juga haru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mberi saran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pada pihak beliau cara-cara dapat menggalakkan pertuturan yang baik dalam bahasa Melayu terutamanya di sekola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at kamu mestilah dilihat dari sudut pandangan bangsa Cina yang mahir bertutur dalam bahasa Melay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4:03:22Z</dcterms:created>
  <dc:creator>nurashikin</dc:creator>
  <dc:description/>
  <dc:language>en-US</dc:language>
  <cp:lastModifiedBy>nurashikin</cp:lastModifiedBy>
  <dcterms:modified xsi:type="dcterms:W3CDTF">2010-05-26T04:57:31Z</dcterms:modified>
  <cp:revision>2</cp:revision>
  <dc:subject/>
  <dc:title>Slide 1</dc:title>
</cp:coreProperties>
</file>